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A09-DBC3-4E2E-84F3-43CCD6F8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1B9-3928-4E64-94C7-25976177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BF5-EF80-4C69-88DE-3C2D3255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F7B-D92F-4CEF-A73B-75C91F9E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76E-9AEC-4817-9C58-E3C1F903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11A-4472-4600-AB54-5A10E276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39A-A20A-482D-B5D3-0CEBEBF8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8C2-630F-4D9D-A9DA-1552B31F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954-8D6A-43F1-9868-C53C5D7C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F5B-1D56-4D93-BDD9-6C8D6616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E55-4943-4674-8D8D-384D5A86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350-5F00-4771-B72F-A55E3FF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BCF4-FAFA-4F51-B638-9D4455165F61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1:39:21Z</dcterms:created>
  <dc:creator>admin2</dc:creator>
  <dc:description/>
  <dc:language>en-US</dc:language>
  <cp:lastModifiedBy>admin2</cp:lastModifiedBy>
  <dcterms:modified xsi:type="dcterms:W3CDTF">2012-02-11T11:48:31Z</dcterms:modified>
  <cp:revision>1</cp:revision>
  <dc:subject/>
  <dc:title>Diapozitivul 1</dc:title>
</cp:coreProperties>
</file>